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EC845-8B14-4831-BD4D-924EFB865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016A2-BDE5-428E-9FB8-FED590817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559C9-29B1-4724-9043-F64C6E5AF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0AED0-EEEA-4EA7-A95A-87656022A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E42A5-713E-4E61-8FC5-A6C633198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FC405-09A3-40C7-835D-C231338A9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83094-FF51-481E-9AF4-577E06F6B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1D752-E5D4-4C6E-AAB3-383766987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49071-AF20-472C-8A8A-BB8CE2DE6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51CD8-8CC4-4EB2-84A8-C7DC0D102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CF4DA-DB8D-439C-A654-E7397382A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53B1-2DDB-413E-9CBD-3F8FB4740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A4BAB-60D5-4954-B0A1-BA74941C6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17420-3522-4B89-93AF-D2E9E59DA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6345C-3DC3-412C-BBC2-098C25D74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D989A-B554-4C12-8597-A50091905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C439B-835E-4DAC-B0EC-D0AD662BC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799ECA-C10D-48F0-A654-F04297B6A4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7B515-59A1-49EA-8BEA-9D7305DDC6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6B3A4-107C-464D-B878-140205D83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1CC3F-091C-41EF-B043-8AB373E6C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D1A4F-E161-4324-ABE2-7F37134C5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816DB-9FB0-4BC2-A46B-88626D84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EC284-9E94-4DEB-B7F0-FDA9C14C6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78E6D-17CC-45A9-AE12-E6D28993F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64F07-A99A-4F22-93F3-FBFAA5B3B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BFCB2-E879-4959-B8CB-E9A989BD1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3814B-AC87-4110-AAC2-D390A55B8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928E48-E754-4D0B-8267-F5CE3524FE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E694B9-D511-437C-9F01-D4E2CDF86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6DD0DE-EC5F-4417-8176-9732EDFB54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E5A1D-8E9D-4E82-8F5D-BFCC0A3DE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7F7A9-7DAD-46E9-B5B5-A978961739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F9511-0B83-4F04-ADDA-4C2B75008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B2CB0-5FD0-4F11-9981-5B7A7F9A6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2120D-6D6E-4646-A9BD-865598D65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5C72F-CDFE-46FF-93F5-AE5A9BC0C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81ADA-E807-42A2-913D-DC510D651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B12CF-9510-4D91-928F-7FB611065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3A507-0B3C-4DB2-8F93-56C3E1E4A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948776-2D64-47C8-86ED-878B37F49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E8EAD6-1AC1-46E4-88D7-6DBA3B86E3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19E584-8B82-4AD4-AC05-66D906CF10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2FEC-D2CA-482A-9307-B12FA18EA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10ED0-3DA7-4547-939D-21F75EFCB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A04C-B9A2-4485-96CA-EF8ACAE5E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E94F-1686-4C4D-9A50-39453EAB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2360-5BE1-4AAA-B9B2-551C0ED5F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DA746-2B97-40A3-86C6-29D6D7D881F1}"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2"/>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73F14-0DD9-41EC-977E-9165ECFB224F}"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2"/>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F6F2D-8492-4418-AD09-965FA17E8D47}"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2"/>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841FF-963A-42F6-B5A8-2F0363757E98}"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8040" y="3352680"/>
            <a:ext cx="7851600" cy="10670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2060"/>
                </a:solidFill>
                <a:latin typeface="Century Gothic"/>
              </a:rPr>
              <a:t>HEALTH INSURANCE</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533160" y="2438280"/>
            <a:ext cx="7854840" cy="373392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pic>
        <p:nvPicPr>
          <p:cNvPr id="236" name="Picture 4" descr=""/>
          <p:cNvPicPr/>
          <p:nvPr/>
        </p:nvPicPr>
        <p:blipFill>
          <a:blip r:embed="rId1"/>
          <a:stretch/>
        </p:blipFill>
        <p:spPr>
          <a:xfrm>
            <a:off x="3962520" y="1447920"/>
            <a:ext cx="1143000" cy="69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WAITING PERIOD EXCLUSIONS</a:t>
            </a:r>
            <a:endParaRPr b="0" lang="en-US" sz="4200" spc="-1" strike="noStrike">
              <a:solidFill>
                <a:srgbClr val="ebebeb"/>
              </a:solidFill>
              <a:latin typeface="Century Gothic"/>
            </a:endParaRPr>
          </a:p>
        </p:txBody>
      </p:sp>
      <p:sp>
        <p:nvSpPr>
          <p:cNvPr id="254" name=""/>
          <p:cNvSpPr txBox="1"/>
          <p:nvPr/>
        </p:nvSpPr>
        <p:spPr>
          <a:xfrm>
            <a:off x="457200" y="2361960"/>
            <a:ext cx="8229600" cy="2971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existing diseases    -  36 months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rst 30 days    -    EXCEPT accid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wo years/Four years exclusio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PERMANENT EXCLUSIONS</a:t>
            </a:r>
            <a:endParaRPr b="0" lang="en-US" sz="4200" spc="-1" strike="noStrike">
              <a:solidFill>
                <a:srgbClr val="ebebeb"/>
              </a:solidFill>
              <a:latin typeface="Century Gothic"/>
            </a:endParaRPr>
          </a:p>
        </p:txBody>
      </p:sp>
      <p:sp>
        <p:nvSpPr>
          <p:cNvPr id="256" name=""/>
          <p:cNvSpPr txBox="1"/>
          <p:nvPr/>
        </p:nvSpPr>
        <p:spPr>
          <a:xfrm>
            <a:off x="1066320" y="2133720"/>
            <a:ext cx="7620120" cy="4038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ircumcision/Inoculation/Plastic surge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st of spectacles, contact lenses and hearing aid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Vitamins and tonics  - Covered if part of treatm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gnancy, childbirth except ectopic pregnancy proved by USG report and certificate of Gynae that it is life threatening.</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evices – CPAP, Belts, collar, stockings, diabetic footwear, Glucometer/Thermometer, alpha/water bed</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1760"/>
            <a:ext cx="8229600" cy="68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PERMANENT EXCLUSIONS</a:t>
            </a:r>
            <a:endParaRPr b="0" lang="en-US" sz="4200" spc="-1" strike="noStrike">
              <a:solidFill>
                <a:srgbClr val="ebebeb"/>
              </a:solidFill>
              <a:latin typeface="Century Gothic"/>
            </a:endParaRPr>
          </a:p>
        </p:txBody>
      </p:sp>
      <p:sp>
        <p:nvSpPr>
          <p:cNvPr id="258" name=""/>
          <p:cNvSpPr txBox="1"/>
          <p:nvPr/>
        </p:nvSpPr>
        <p:spPr>
          <a:xfrm>
            <a:off x="990720" y="2133360"/>
            <a:ext cx="7696080" cy="38862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enetic disorders and stem cell implanta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hange of treatment from one system of medicine to another – unless recommended by the consultant/hosp.</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MD, RFQMR – Rotational Field Quantum Magnetic Resonance, EECP-Enhanced External Counter Pulsa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Medical expen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mission/Registration, service, surcharge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ANY ONE ILLNESS AND GRACE PERIOD</a:t>
            </a:r>
            <a:endParaRPr b="0" lang="en-US" sz="4200" spc="-1" strike="noStrike">
              <a:solidFill>
                <a:srgbClr val="ebebeb"/>
              </a:solidFill>
              <a:latin typeface="Century Gothic"/>
            </a:endParaRPr>
          </a:p>
        </p:txBody>
      </p:sp>
      <p:sp>
        <p:nvSpPr>
          <p:cNvPr id="260" name=""/>
          <p:cNvSpPr txBox="1"/>
          <p:nvPr/>
        </p:nvSpPr>
        <p:spPr>
          <a:xfrm>
            <a:off x="914400" y="2590920"/>
            <a:ext cx="7772400" cy="31240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 One illness – Continue period of illness and relapse within    _45__ days from the date of last consultation</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race Period -     30 days for Quarterly/Half-yearly/Monthly premium.  Admission during break-in period is not covere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15days where premium is paid in monthly instalments. </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aim payable even if claim fall under grace period. Not applicable for grace period at renewal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NETWORK VS.PPN</a:t>
            </a:r>
            <a:endParaRPr b="0" lang="en-US" sz="4200" spc="-1" strike="noStrike">
              <a:solidFill>
                <a:srgbClr val="ebebeb"/>
              </a:solidFill>
              <a:latin typeface="Century Gothic"/>
            </a:endParaRPr>
          </a:p>
        </p:txBody>
      </p:sp>
      <p:sp>
        <p:nvSpPr>
          <p:cNvPr id="262" name=""/>
          <p:cNvSpPr txBox="1"/>
          <p:nvPr/>
        </p:nvSpPr>
        <p:spPr>
          <a:xfrm>
            <a:off x="761760" y="1934640"/>
            <a:ext cx="7924680" cy="4389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twork -  Empaneled  hospitals – where cashless facility is provided -  Between TPA and Hospital – Different TPAs have different rates with Hospital for same proced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PN – Preferred Provider Network – Between TPA, Insurance company and Hospital – effective in 12 cities – Same rate across all Hospitals and across all PSU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1371600"/>
            <a:ext cx="761976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FACTORS</a:t>
            </a:r>
            <a:endParaRPr b="0" lang="en-US" sz="4200" spc="-1" strike="noStrike">
              <a:solidFill>
                <a:srgbClr val="ebebeb"/>
              </a:solidFill>
              <a:latin typeface="Century Gothic"/>
            </a:endParaRPr>
          </a:p>
        </p:txBody>
      </p:sp>
      <p:sp>
        <p:nvSpPr>
          <p:cNvPr id="264" name=""/>
          <p:cNvSpPr txBox="1"/>
          <p:nvPr/>
        </p:nvSpPr>
        <p:spPr>
          <a:xfrm>
            <a:off x="1142640" y="1934640"/>
            <a:ext cx="754380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and Sum Insured    -    Health Policy</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No.of days and Sum Insured  -   OMP</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a:t>
            </a:r>
            <a:r>
              <a:rPr b="0" lang="en-US" sz="2000" spc="-1" strike="noStrike">
                <a:solidFill>
                  <a:srgbClr val="ffff00"/>
                </a:solidFill>
                <a:latin typeface="Century Gothic"/>
              </a:rPr>
              <a:t>Occupation</a:t>
            </a:r>
            <a:r>
              <a:rPr b="0" lang="en-US" sz="2000" spc="-1" strike="noStrike">
                <a:solidFill>
                  <a:srgbClr val="ffffff"/>
                </a:solidFill>
                <a:latin typeface="Century Gothic"/>
              </a:rPr>
              <a:t>, No of days and Sum Insure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1371600"/>
            <a:ext cx="761976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OPTIONAL COVERS</a:t>
            </a:r>
            <a:endParaRPr b="0" lang="en-US" sz="4200" spc="-1" strike="noStrike">
              <a:solidFill>
                <a:srgbClr val="ebebeb"/>
              </a:solidFill>
              <a:latin typeface="Century Gothic"/>
            </a:endParaRPr>
          </a:p>
        </p:txBody>
      </p:sp>
      <p:sp>
        <p:nvSpPr>
          <p:cNvPr id="266" name=""/>
          <p:cNvSpPr txBox="1"/>
          <p:nvPr/>
        </p:nvSpPr>
        <p:spPr>
          <a:xfrm>
            <a:off x="1523520" y="1934640"/>
            <a:ext cx="716292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aily Cash Allowanc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ritical Illness</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Overseas Hospitalisation</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oad and Air Ambulanc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instatement of Sum Insured (In-built also)</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List of Excluded Item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RENEWAL</a:t>
            </a:r>
            <a:endParaRPr b="0" lang="en-US" sz="4200" spc="-1" strike="noStrike">
              <a:solidFill>
                <a:srgbClr val="ebebeb"/>
              </a:solidFill>
              <a:latin typeface="Century Gothic"/>
            </a:endParaRPr>
          </a:p>
        </p:txBody>
      </p:sp>
      <p:sp>
        <p:nvSpPr>
          <p:cNvPr id="268" name=""/>
          <p:cNvSpPr txBox="1"/>
          <p:nvPr/>
        </p:nvSpPr>
        <p:spPr>
          <a:xfrm>
            <a:off x="1371600" y="2133360"/>
            <a:ext cx="7315200" cy="37335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be denied only on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rau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Disclosure.</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isrepresentation</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not be denied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aim in preceding years.</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sort to fresh uw unless there is an increase in S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ancellation</a:t>
            </a:r>
            <a:endParaRPr b="0" lang="en-US" sz="4200" spc="-1" strike="noStrike">
              <a:solidFill>
                <a:srgbClr val="ebebeb"/>
              </a:solidFill>
              <a:latin typeface="Century Gothic"/>
            </a:endParaRPr>
          </a:p>
        </p:txBody>
      </p:sp>
      <p:sp>
        <p:nvSpPr>
          <p:cNvPr id="270" name=""/>
          <p:cNvSpPr txBox="1"/>
          <p:nvPr/>
        </p:nvSpPr>
        <p:spPr>
          <a:xfrm>
            <a:off x="1218960" y="1934640"/>
            <a:ext cx="746748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cancel the policy on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rau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isrepresentation</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disclosure of material fact</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cooperation by the insure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eriod of Notice  -  </a:t>
            </a:r>
            <a:r>
              <a:rPr b="0" lang="en-US" sz="2000" spc="-1" strike="noStrike" u="sng">
                <a:solidFill>
                  <a:srgbClr val="ffffff"/>
                </a:solidFill>
                <a:uFillTx/>
                <a:latin typeface="Century Gothic"/>
              </a:rPr>
              <a:t>Fifteen days</a:t>
            </a:r>
            <a:r>
              <a:rPr b="0" lang="en-US" sz="2000" spc="-1" strike="noStrike">
                <a:solidFill>
                  <a:srgbClr val="ffffff"/>
                </a:solidFill>
                <a:latin typeface="Century Gothic"/>
              </a:rPr>
              <a:t> in writing by Registered A/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Insured cancel ; - 7 days notice in writing. Refund proportionate premium for unexpired policy perio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704880"/>
            <a:ext cx="792468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Enhancement of Sum Insured</a:t>
            </a:r>
            <a:endParaRPr b="0" lang="en-US" sz="4200" spc="-1" strike="noStrike">
              <a:solidFill>
                <a:srgbClr val="ebebeb"/>
              </a:solidFill>
              <a:latin typeface="Century Gothic"/>
            </a:endParaRPr>
          </a:p>
        </p:txBody>
      </p:sp>
      <p:sp>
        <p:nvSpPr>
          <p:cNvPr id="272" name=""/>
          <p:cNvSpPr txBox="1"/>
          <p:nvPr/>
        </p:nvSpPr>
        <p:spPr>
          <a:xfrm>
            <a:off x="761760" y="1599840"/>
            <a:ext cx="792468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be considered –   ?  Ye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   - Only during renew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Enhanced Sum Insured – waiting period applicable for enhanced sum insure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ffffff"/>
                </a:solidFill>
                <a:uFillTx/>
                <a:latin typeface="Century Gothic"/>
              </a:rPr>
              <a:t>MID-TERM ADDITION</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wly married spous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w Born Baby</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704520"/>
            <a:ext cx="8001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HEALTH POLICY</a:t>
            </a:r>
            <a:endParaRPr b="0" lang="en-US" sz="4200" spc="-1" strike="noStrike">
              <a:solidFill>
                <a:srgbClr val="ebebeb"/>
              </a:solidFill>
              <a:latin typeface="Century Gothic"/>
            </a:endParaRPr>
          </a:p>
        </p:txBody>
      </p:sp>
      <p:sp>
        <p:nvSpPr>
          <p:cNvPr id="238" name=""/>
          <p:cNvSpPr txBox="1"/>
          <p:nvPr/>
        </p:nvSpPr>
        <p:spPr>
          <a:xfrm>
            <a:off x="837720" y="2285640"/>
            <a:ext cx="7620120" cy="34290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ll Health Policy is Indemnity Polic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combined with Critical Illness Policy – it is Indemnity-cum-Benefit Polic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ealth Policy – </a:t>
            </a:r>
            <a:r>
              <a:rPr b="0" lang="en-US" sz="2000" spc="-1" strike="noStrike">
                <a:solidFill>
                  <a:srgbClr val="ffffff"/>
                </a:solidFill>
                <a:latin typeface="Century Gothic"/>
              </a:rPr>
              <a:t>	</a:t>
            </a:r>
            <a:r>
              <a:rPr b="0" lang="en-US" sz="2000" spc="-1" strike="noStrike">
                <a:solidFill>
                  <a:srgbClr val="ffffff"/>
                </a:solidFill>
                <a:latin typeface="Century Gothic"/>
              </a:rPr>
              <a:t>Hospitalisation in India</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OMP</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Hospitalisation outside India</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A</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Worldwid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28600"/>
            <a:ext cx="792504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ebebeb"/>
                </a:solidFill>
                <a:latin typeface="Century Gothic"/>
              </a:rPr>
              <a:t>Reinstatement of Sum Insured</a:t>
            </a:r>
            <a:endParaRPr b="0" lang="en-US" sz="4300" spc="-1" strike="noStrike">
              <a:solidFill>
                <a:srgbClr val="ebebeb"/>
              </a:solidFill>
              <a:latin typeface="Century Gothic"/>
            </a:endParaRPr>
          </a:p>
        </p:txBody>
      </p:sp>
      <p:sp>
        <p:nvSpPr>
          <p:cNvPr id="274" name=""/>
          <p:cNvSpPr txBox="1"/>
          <p:nvPr/>
        </p:nvSpPr>
        <p:spPr>
          <a:xfrm>
            <a:off x="761760" y="1904760"/>
            <a:ext cx="7924680" cy="38862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ome Policies offer</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I reinstated as soon as the entire SI is exhausted or during claim.</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remium added or inbuilt at the commencement of risk.</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Mid-term cannot be included.</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einstated SI can be utilised for illness other than for which the SI is exhausted.</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1876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ebebeb"/>
                </a:solidFill>
                <a:latin typeface="Century Gothic"/>
              </a:rPr>
              <a:t>FREE LOOK PERIOD</a:t>
            </a:r>
            <a:endParaRPr b="0" lang="en-US" sz="4900" spc="-1" strike="noStrike">
              <a:solidFill>
                <a:srgbClr val="ebebeb"/>
              </a:solidFill>
              <a:latin typeface="Century Gothic"/>
            </a:endParaRPr>
          </a:p>
        </p:txBody>
      </p:sp>
      <p:sp>
        <p:nvSpPr>
          <p:cNvPr id="276" name=""/>
          <p:cNvSpPr txBox="1"/>
          <p:nvPr/>
        </p:nvSpPr>
        <p:spPr>
          <a:xfrm>
            <a:off x="761760" y="1905120"/>
            <a:ext cx="7924680" cy="365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30 days from the date of receipt of policy (earlier 15 days)</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Available for policies with a term of one year or more</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Applicable at the inception of first policy</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Proportionate risk premium to be deducted for period of cover</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Refund of the premium paid less any expenses incurred by the insurer on medical examination provided no claim is made.</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Whether applicable if moved from One insurer to another ?</a:t>
            </a:r>
            <a:endParaRPr b="0" lang="en-US" sz="19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      </a:t>
            </a:r>
            <a:r>
              <a:rPr b="0" lang="en-US" sz="1900" spc="-1" strike="noStrike">
                <a:solidFill>
                  <a:srgbClr val="ffffff"/>
                </a:solidFill>
                <a:latin typeface="Century Gothic"/>
              </a:rPr>
              <a:t>Yes.</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685440"/>
            <a:ext cx="746784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bebeb"/>
                </a:solidFill>
                <a:latin typeface="Century Gothic"/>
              </a:rPr>
              <a:t>TIMELINES</a:t>
            </a:r>
            <a:endParaRPr b="0" lang="en-US" sz="3600" spc="-1" strike="noStrike">
              <a:solidFill>
                <a:srgbClr val="ebebeb"/>
              </a:solidFill>
              <a:latin typeface="Century Gothic"/>
            </a:endParaRPr>
          </a:p>
        </p:txBody>
      </p:sp>
      <p:sp>
        <p:nvSpPr>
          <p:cNvPr id="278" name=""/>
          <p:cNvSpPr txBox="1"/>
          <p:nvPr/>
        </p:nvSpPr>
        <p:spPr>
          <a:xfrm>
            <a:off x="990720" y="1904760"/>
            <a:ext cx="7696080" cy="426708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timation OF claim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Immediate  - </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Emergency cases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within 24 hours</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ubmission of documents – 15 days from the date of discharge</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ttlement of claims – 15 days from the date of receipt of last documents</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 claim shall be rejected or closed for want of documents or for delayed intimation.</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45684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3800" spc="-1" strike="noStrike">
                <a:solidFill>
                  <a:srgbClr val="ebebeb"/>
                </a:solidFill>
                <a:latin typeface="Century Gothic"/>
              </a:rPr>
              <a:t>PRE-ACCEPTANCE HEALTH CHECK-UP</a:t>
            </a:r>
            <a:endParaRPr b="0" lang="en-US" sz="3800" spc="-1" strike="noStrike">
              <a:solidFill>
                <a:srgbClr val="ebebeb"/>
              </a:solidFill>
              <a:latin typeface="Century Gothic"/>
            </a:endParaRPr>
          </a:p>
        </p:txBody>
      </p:sp>
      <p:sp>
        <p:nvSpPr>
          <p:cNvPr id="280" name=""/>
          <p:cNvSpPr txBox="1"/>
          <p:nvPr/>
        </p:nvSpPr>
        <p:spPr>
          <a:xfrm>
            <a:off x="1295280" y="2514600"/>
            <a:ext cx="7391520" cy="3657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Test differs from Policy to Policy.</a:t>
            </a: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ot less than 50% of the cost involved for the required test to be refunded subject acceptance of risk.</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COST OF HEALTH CHECK-UP</a:t>
            </a:r>
            <a:endParaRPr b="0" lang="en-US" sz="4900" spc="-1" strike="noStrike">
              <a:solidFill>
                <a:srgbClr val="ebebeb"/>
              </a:solidFill>
              <a:latin typeface="Century Gothic"/>
            </a:endParaRPr>
          </a:p>
        </p:txBody>
      </p:sp>
      <p:sp>
        <p:nvSpPr>
          <p:cNvPr id="282" name=""/>
          <p:cNvSpPr txBox="1"/>
          <p:nvPr/>
        </p:nvSpPr>
        <p:spPr>
          <a:xfrm>
            <a:off x="1295280" y="2285640"/>
            <a:ext cx="7391520" cy="38862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1% of the </a:t>
            </a:r>
            <a:r>
              <a:rPr b="0" lang="en-US" sz="2200" spc="-1" strike="noStrike" u="sng">
                <a:solidFill>
                  <a:srgbClr val="ffffff"/>
                </a:solidFill>
                <a:uFillTx/>
                <a:latin typeface="Century Gothic"/>
              </a:rPr>
              <a:t>average sum insured </a:t>
            </a:r>
            <a:r>
              <a:rPr b="0" lang="en-US" sz="2200" spc="-1" strike="noStrike">
                <a:solidFill>
                  <a:srgbClr val="ffffff"/>
                </a:solidFill>
                <a:latin typeface="Century Gothic"/>
              </a:rPr>
              <a:t>for the preceding four claim free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Book reference)</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Some policy has three years and some have four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Would not be considered as a claim and will not affect the cumulative bonus or discount accrued during the previous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PRE-EXISTING DEFINITION</a:t>
            </a:r>
            <a:endParaRPr b="0" lang="en-US" sz="4900" spc="-1" strike="noStrike">
              <a:solidFill>
                <a:srgbClr val="ebebeb"/>
              </a:solidFill>
              <a:latin typeface="Century Gothic"/>
            </a:endParaRPr>
          </a:p>
        </p:txBody>
      </p:sp>
      <p:sp>
        <p:nvSpPr>
          <p:cNvPr id="284" name=""/>
          <p:cNvSpPr txBox="1"/>
          <p:nvPr/>
        </p:nvSpPr>
        <p:spPr>
          <a:xfrm>
            <a:off x="837720" y="1905120"/>
            <a:ext cx="7620120" cy="3657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Pre-existing disease means any condition, ailment or injury or disease: </a:t>
            </a:r>
            <a:endParaRPr b="0" lang="en-US" sz="2400" spc="-1" strike="noStrike">
              <a:solidFill>
                <a:srgbClr val="ffffff"/>
              </a:solidFill>
              <a:latin typeface="Century Gothic"/>
            </a:endParaRPr>
          </a:p>
          <a:p>
            <a:pPr>
              <a:spcBef>
                <a:spcPts val="1001"/>
              </a:spcBef>
              <a:buClr>
                <a:srgbClr val="8ad0d6"/>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That is/are diagnosed by a physician within 36 months prior to the effective date of the policy issued by the insurer OR</a:t>
            </a:r>
            <a:endParaRPr b="0" lang="en-US" sz="2400" spc="-1" strike="noStrike">
              <a:solidFill>
                <a:srgbClr val="ffffff"/>
              </a:solidFill>
              <a:latin typeface="Century Gothic"/>
            </a:endParaRPr>
          </a:p>
          <a:p>
            <a:pPr>
              <a:spcBef>
                <a:spcPts val="1001"/>
              </a:spcBef>
              <a:buClr>
                <a:srgbClr val="8ad0d6"/>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For which medical advice or treatment was recommended by, or received from, a physician within 36 months prior to the effective date of the policy or its reinstatement</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76320"/>
            <a:ext cx="8229600" cy="7617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MIGRATION</a:t>
            </a:r>
            <a:endParaRPr b="0" lang="en-US" sz="4900" spc="-1" strike="noStrike">
              <a:solidFill>
                <a:srgbClr val="ebebeb"/>
              </a:solidFill>
              <a:latin typeface="Century Gothic"/>
            </a:endParaRPr>
          </a:p>
        </p:txBody>
      </p:sp>
      <p:sp>
        <p:nvSpPr>
          <p:cNvPr id="286" name=""/>
          <p:cNvSpPr txBox="1"/>
          <p:nvPr/>
        </p:nvSpPr>
        <p:spPr>
          <a:xfrm>
            <a:off x="837720" y="1905120"/>
            <a:ext cx="7620120" cy="36576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ithin the Company.</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Migration to suitable health product at the time of exit age or at the time of withdrawal of existing product.</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Allow all suitable credits in the previous policy years provided policy maintained without any break.</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ot applicable for Travel and PA Policies.</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360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PORTABILITY</a:t>
            </a:r>
            <a:endParaRPr b="0" lang="en-US" sz="4900" spc="-1" strike="noStrike">
              <a:solidFill>
                <a:srgbClr val="ebebeb"/>
              </a:solidFill>
              <a:latin typeface="Century Gothic"/>
            </a:endParaRPr>
          </a:p>
        </p:txBody>
      </p:sp>
      <p:sp>
        <p:nvSpPr>
          <p:cNvPr id="288" name=""/>
          <p:cNvSpPr txBox="1"/>
          <p:nvPr/>
        </p:nvSpPr>
        <p:spPr>
          <a:xfrm>
            <a:off x="837720" y="1904760"/>
            <a:ext cx="7620120" cy="41907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Credit gained with previous insurance for PED and time-bound exclusion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Policy holder to apply at least 30 days before but not earlier than 60 days from the due date of renewal.</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Existing Insurer to provide the information sought by Acquiring Insurer immediately but not more than 72 hours of receipt of request through IIB.</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Acquiring Insurer to communicate on the proposal but not more than 5 days of receipt of information from Existing insurer.</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No commission for port-in policy.</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52480" y="685440"/>
            <a:ext cx="701064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MORATORIUM PERIOD</a:t>
            </a:r>
            <a:endParaRPr b="0" lang="en-US" sz="4900" spc="-1" strike="noStrike">
              <a:solidFill>
                <a:srgbClr val="ebebeb"/>
              </a:solidFill>
              <a:latin typeface="Century Gothic"/>
            </a:endParaRPr>
          </a:p>
        </p:txBody>
      </p:sp>
      <p:sp>
        <p:nvSpPr>
          <p:cNvPr id="290" name=""/>
          <p:cNvSpPr txBox="1"/>
          <p:nvPr/>
        </p:nvSpPr>
        <p:spPr>
          <a:xfrm>
            <a:off x="837720" y="2362320"/>
            <a:ext cx="7620120" cy="32004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If the insured is with us for 60 months of continuous coverage, there is no question of look back.</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Except for established fraud.</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Ported or migrated period to be counted for purpose of calculating the Moratorium period.</a:t>
            </a: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837720"/>
            <a:ext cx="8229600" cy="838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ebebeb"/>
                </a:solidFill>
                <a:latin typeface="Century Gothic"/>
              </a:rPr>
              <a:t>MULTIPLE POLICIES</a:t>
            </a:r>
            <a:endParaRPr b="0" lang="en-US" sz="4900" spc="-1" strike="noStrike">
              <a:solidFill>
                <a:srgbClr val="ebebeb"/>
              </a:solidFill>
              <a:latin typeface="Century Gothic"/>
            </a:endParaRPr>
          </a:p>
        </p:txBody>
      </p:sp>
      <p:sp>
        <p:nvSpPr>
          <p:cNvPr id="292" name=""/>
          <p:cNvSpPr txBox="1"/>
          <p:nvPr/>
        </p:nvSpPr>
        <p:spPr>
          <a:xfrm>
            <a:off x="837720" y="2133360"/>
            <a:ext cx="7620120" cy="43434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Each insurer deal with the claims independentl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It is the privilege of the Insured to claim under any polic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Has right to claim the balance amount/deductibles/co-pay from the other insurer subject to the limits and terms of the polic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The first settler will hold the claim documents and the second settler shall settle the claim based on the certified documents obtained from the first settler.</a:t>
            </a: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704520"/>
            <a:ext cx="8001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HEALTH POLICY</a:t>
            </a:r>
            <a:endParaRPr b="0" lang="en-US" sz="4200" spc="-1" strike="noStrike">
              <a:solidFill>
                <a:srgbClr val="ebebeb"/>
              </a:solidFill>
              <a:latin typeface="Century Gothic"/>
            </a:endParaRPr>
          </a:p>
        </p:txBody>
      </p:sp>
      <p:sp>
        <p:nvSpPr>
          <p:cNvPr id="240" name=""/>
          <p:cNvSpPr txBox="1"/>
          <p:nvPr/>
        </p:nvSpPr>
        <p:spPr>
          <a:xfrm>
            <a:off x="837720" y="2285640"/>
            <a:ext cx="7620120" cy="34290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TAIL  - DIRECT CUSTOMER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ROUP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EMPLOYER – EMPLOYEE RELATIONSHIP</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NON-EMPLOYER-NON-EMPLOYEE RELATIONSHIP</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OVERNMENT SCHEM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68544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bebeb"/>
                </a:solidFill>
                <a:latin typeface="Century Gothic"/>
              </a:rPr>
              <a:t> </a:t>
            </a:r>
            <a:r>
              <a:rPr b="1" lang="en-US" sz="4400" spc="-1" strike="noStrike">
                <a:solidFill>
                  <a:srgbClr val="ebebeb"/>
                </a:solidFill>
                <a:latin typeface="Century Gothic"/>
              </a:rPr>
              <a:t>THIRD PARTY ADMINISTRATOR</a:t>
            </a:r>
            <a:endParaRPr b="0" lang="en-US" sz="4400" spc="-1" strike="noStrike">
              <a:solidFill>
                <a:srgbClr val="ebebeb"/>
              </a:solidFill>
              <a:latin typeface="Century Gothic"/>
            </a:endParaRPr>
          </a:p>
        </p:txBody>
      </p:sp>
      <p:sp>
        <p:nvSpPr>
          <p:cNvPr id="294" name=""/>
          <p:cNvSpPr txBox="1"/>
          <p:nvPr/>
        </p:nvSpPr>
        <p:spPr>
          <a:xfrm>
            <a:off x="457200" y="1676160"/>
            <a:ext cx="8229600" cy="42670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ROLE</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ID Card issuance / Processing of claims</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can approv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settl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can repudiat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As soon as the claim is settled, the file to returned to UW office and documents to be digitally transferred.</a:t>
            </a: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609480"/>
            <a:ext cx="7851600" cy="6098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Gothic"/>
              </a:rPr>
              <a:t>IRDAI REGULATIONS</a:t>
            </a:r>
            <a:endParaRPr b="0" lang="en-US" sz="3600" spc="-1" strike="noStrike">
              <a:solidFill>
                <a:srgbClr val="ebebeb"/>
              </a:solidFill>
              <a:latin typeface="Century Gothic"/>
            </a:endParaRPr>
          </a:p>
        </p:txBody>
      </p:sp>
      <p:sp>
        <p:nvSpPr>
          <p:cNvPr id="296" name="PlaceHolder 2"/>
          <p:cNvSpPr>
            <a:spLocks noGrp="1"/>
          </p:cNvSpPr>
          <p:nvPr>
            <p:ph type="subTitle"/>
          </p:nvPr>
        </p:nvSpPr>
        <p:spPr>
          <a:xfrm>
            <a:off x="762120" y="1599840"/>
            <a:ext cx="7772400" cy="3962520"/>
          </a:xfrm>
          <a:prstGeom prst="rect">
            <a:avLst/>
          </a:prstGeom>
          <a:noFill/>
          <a:ln w="0">
            <a:noFill/>
          </a:ln>
        </p:spPr>
        <p:txBody>
          <a:bodyPr anchor="t">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RDA (HEALTH INSURANCE) REGULATIONS 2013 -  01-10-2013</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RDAI (HEALTH INSURANCE) REGULATIONS 2016  - 12-07-2016</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NCLUDES  HEALTH, PERSONAL ACCIDENT AND TRAVEL POLICIES</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MASTER CIRCULAR ISSUED ON 29-05-2024 TO COMPLY WITH BEFORE 30-09-2024</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298"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MPULSORY TO COVER TECHNOLOGICAL ADVANCEMENTS AND TREATMENT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ENIOR CITIZEN DEFINITION – </a:t>
            </a:r>
            <a:r>
              <a:rPr b="0" lang="en-US" sz="2000" spc="-1" strike="noStrike" u="sng">
                <a:solidFill>
                  <a:srgbClr val="8ad0d6"/>
                </a:solidFill>
                <a:uFillTx/>
                <a:latin typeface="Century Gothic"/>
              </a:rPr>
              <a:t>60 OR MORE YEARS </a:t>
            </a:r>
            <a:r>
              <a:rPr b="0" lang="en-US" sz="2000" spc="-1" strike="noStrike">
                <a:solidFill>
                  <a:srgbClr val="8ad0d6"/>
                </a:solidFill>
                <a:latin typeface="Century Gothic"/>
              </a:rPr>
              <a:t>AS ON THE DATE OF COMMENCEMENT OR RENEWAL OF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 LOADING OF PREMIUM</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EVIEWED BY APPOINTED ACTUARY ONCE IN A YEAR</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OARD APPROVED UNDERWRITING POLICY IS MANDAT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ELL DOCUMENTED UW, CLAIMS AND POLICY SERVICING MANUAL COMPULS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OP FOR ACCEPTANCE OF RISKS AND PROCESSING OF CLAIMS.</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0"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PREMIUM CAN BE REVISED ONLY AFTER THREE YEARS OF APPROVAL.  THEREAFTER FOR A FURTHER PERIOD OF ONE YEAR.</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SHALL NOT BE DENIED RENEWAL – NO AGE LIMIT FOR RENEWAL</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UMULATIVE BONUS ACCRUED – REDUCE AT THE SAME RATE  AT WHICH IT HAS ACCRUED </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ANNOT SEEK MEDICAL EXAMINATION OR FRESH PROPOSAL FORM IF SAME SUM INSURED IS MAINTAINED ON RENEWAL.</a:t>
            </a: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2" name="PlaceHolder 2"/>
          <p:cNvSpPr>
            <a:spLocks noGrp="1"/>
          </p:cNvSpPr>
          <p:nvPr>
            <p:ph type="subTitle"/>
          </p:nvPr>
        </p:nvSpPr>
        <p:spPr>
          <a:xfrm>
            <a:off x="762120" y="1752480"/>
            <a:ext cx="8076960" cy="426744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DOCUMENTS SUBMITTED BEYOND CERTAIN PERIOD – CAN CLAIM BE DENIED ? NO</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WHETHER TPA CAN BE CHANGED ?  YES – 30 DAYS NOTIC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NO COMMISSION PAYABLE FOR PORTABILITY POLICY.</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OMBI PRODUCTS – COMBINATION OF WHAT ? HEALTH AND LIF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UIN  -  ? UNIQUE IDENTIFICATION NUMBER</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MC – ? PRODUCT MANAGEMENT COMMITTE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AN LIFE INSURANCE PROVIDE HEALTH COVER - ?  (5&gt;) YE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MINIMUM GROUP SIZE -   7</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AN DEVISE MECHANISM TO REWARD POLICYHOLDERS</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4" name="PlaceHolder 2"/>
          <p:cNvSpPr>
            <a:spLocks noGrp="1"/>
          </p:cNvSpPr>
          <p:nvPr>
            <p:ph type="subTitle"/>
          </p:nvPr>
        </p:nvSpPr>
        <p:spPr>
          <a:xfrm>
            <a:off x="762120" y="2209320"/>
            <a:ext cx="8076960" cy="3505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PILOT PRODUCTS – CAN BE DESIGNED AND ISSUED FOR A PERIOD OF ONE YEAR. PILOT PRODUCT CAN BE FOR A MAX. PERIOD OF FIVE YEARS. TO BE REGULARISED LATER. SIMILAR SUCH PRODUCTS TO BE OFFERED IF PILOT PRODUCT IS WITHDRAW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GUIDELINES</a:t>
            </a:r>
            <a:endParaRPr b="0" lang="en-US" sz="5400" spc="-1" strike="noStrike">
              <a:solidFill>
                <a:srgbClr val="ebebeb"/>
              </a:solidFill>
              <a:latin typeface="Century Gothic"/>
            </a:endParaRPr>
          </a:p>
        </p:txBody>
      </p:sp>
      <p:sp>
        <p:nvSpPr>
          <p:cNvPr id="306"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REVISED CIS – W.E.F.01-01-2024 – LOCAL LANGUAGE IF REQD., FONT SIZE 12 AND ABOVE, (ARIAL).</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SURROGACY ACT – COVERAGE FOR SURROGATE MOTHER FOR 36 MONTH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INTENDING COUPLE OR WOMAN CAN TAKE HEALTH INSURANCE  FOR OOCYTE DONOR FOR A PERIOD OF 12 MONTH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NOMINATION COMPULSORY FOR THE PURPOSE OF PAYMENT OF CLAIMS.  CAN BE CHANGED ANY TIME DURING THE POLICY PERIOD.</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WITH SPECIFIC CONSENT FROM CUSTOMER, AYUSHMAN BHARAT HEALTH ACCOUNT (ABHA) TO BE CREATED  FOR HASSLE-FREE METHOD OF ACCESSING AND SHARING HEALTH RECORDS DIGITALLY.</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RECENT AMENDMENTS</a:t>
            </a:r>
            <a:endParaRPr b="0" lang="en-US" sz="5400" spc="-1" strike="noStrike">
              <a:solidFill>
                <a:srgbClr val="ebebeb"/>
              </a:solidFill>
              <a:latin typeface="Century Gothic"/>
            </a:endParaRPr>
          </a:p>
        </p:txBody>
      </p:sp>
      <p:sp>
        <p:nvSpPr>
          <p:cNvPr id="308"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IN COMPLIANCE WITH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PROVISION FOR INSURANCE OF MENTAL ILLNESS AS GOOD AS PHYSICAL ILLNESS – MENTAL HEALTHCARE ACT 2017 CAME INTO FORCE 29-05-2018</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IV ACT 2017 W.E.F.10-9-2018 – NO PERSON TO BE DISCRIMINATED.</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RIGHTS OF PERSONS WITH DISABILITIES ACT 2016</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SURROGACY ACT, 2021</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TRANSGENDER PERSONS ACT, 2019</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ROHINI MASTER – REGISTRAR OF HOSPITALS IN NETWORK OF INSURANCE. MAINTAINED BY IIB.</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Century Gothic"/>
              </a:rPr>
              <a:t>IRDAI MASTER CIRCULAR</a:t>
            </a:r>
            <a:endParaRPr b="0" lang="en-US" sz="4400" spc="-1" strike="noStrike">
              <a:solidFill>
                <a:srgbClr val="ebebeb"/>
              </a:solidFill>
              <a:latin typeface="Century Gothic"/>
            </a:endParaRPr>
          </a:p>
        </p:txBody>
      </p:sp>
      <p:sp>
        <p:nvSpPr>
          <p:cNvPr id="310" name="PlaceHolder 2"/>
          <p:cNvSpPr>
            <a:spLocks noGrp="1"/>
          </p:cNvSpPr>
          <p:nvPr>
            <p:ph type="subTitle"/>
          </p:nvPr>
        </p:nvSpPr>
        <p:spPr>
          <a:xfrm>
            <a:off x="762120" y="1905120"/>
            <a:ext cx="8076960" cy="441936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ENTRY AGE – ALL AGES</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MEDICAL CONDITIONS      </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TREATMENTS TO BE COVERED</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PERSONS TO BE COVERED WITHOUT ANY DISCRIMINATION.</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HOSPITALS/HEALTH CARE PROVIDERS TO BE COVERED.</a:t>
            </a: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INSURERS FREE TO CUSTOMISE THEIR PRODUCT DEPENDING ON CUSTOMER’S REQUIREMENTS.</a:t>
            </a: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Century Gothic"/>
              </a:rPr>
              <a:t>IRDAI MASTER CIRCULAR</a:t>
            </a:r>
            <a:endParaRPr b="0" lang="en-US" sz="4400" spc="-1" strike="noStrike">
              <a:solidFill>
                <a:srgbClr val="ebebeb"/>
              </a:solidFill>
              <a:latin typeface="Century Gothic"/>
            </a:endParaRPr>
          </a:p>
        </p:txBody>
      </p:sp>
      <p:sp>
        <p:nvSpPr>
          <p:cNvPr id="312" name="PlaceHolder 2"/>
          <p:cNvSpPr>
            <a:spLocks noGrp="1"/>
          </p:cNvSpPr>
          <p:nvPr>
            <p:ph type="subTitle"/>
          </p:nvPr>
        </p:nvSpPr>
        <p:spPr>
          <a:xfrm>
            <a:off x="762120" y="1905120"/>
            <a:ext cx="8076960" cy="441936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PRODUCTS TO COVER MTMAT – INSURERS TO INCLUDE THIS – NO LIMIT.</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USTOMER INFORMATION SHEET IS COMPULSORY – INDEX OF CONTENTS OF POLICY.</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WHETHER REQUIRED FOR GROUP POLICIES ?</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100% CASHLESS TO POLICYHOLDERS.</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EMPANELED HOSPITALS TO BE AVAILABLE IN WEBSITE.</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NATIONAL HEALTH CLAIM PAYMENTS FOR SPEEDY SETTLEMENT.</a:t>
            </a: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880"/>
            <a:ext cx="8229600" cy="743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2" name=""/>
          <p:cNvSpPr txBox="1"/>
          <p:nvPr/>
        </p:nvSpPr>
        <p:spPr>
          <a:xfrm>
            <a:off x="457200" y="1599840"/>
            <a:ext cx="8229600" cy="47242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oom, Boarding and Nursing expen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CU</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urgeon, Anesthetist, Consultants, Specialis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dicines, Implants and consumabl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spitalisation expenses of Donors subject to availability of Sum Insure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ther cost of organ is covered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hospitalisation 30 days prior to admission date and Post-hospitalisation 60 days from the date of discharg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  PMC</a:t>
            </a:r>
            <a:endParaRPr b="0" lang="en-US" sz="5400" spc="-1" strike="noStrike">
              <a:solidFill>
                <a:srgbClr val="ebebeb"/>
              </a:solidFill>
              <a:latin typeface="Century Gothic"/>
            </a:endParaRPr>
          </a:p>
        </p:txBody>
      </p:sp>
      <p:sp>
        <p:nvSpPr>
          <p:cNvPr id="314" name="PlaceHolder 2"/>
          <p:cNvSpPr>
            <a:spLocks noGrp="1"/>
          </p:cNvSpPr>
          <p:nvPr>
            <p:ph type="subTitle"/>
          </p:nvPr>
        </p:nvSpPr>
        <p:spPr>
          <a:xfrm>
            <a:off x="762120" y="2133720"/>
            <a:ext cx="8076960" cy="403848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PMC AT ALL INSURERS – MEMBERS OF CUO, AA, CMO, CIO, CTO, CCO.</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QUORUM OF PMC IS 3 MEMBERS IN ADDITION TO AA.</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OVERALL RESPONSIBILITY RESTS WITH CEO</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DUE DILIGENCE PROCESS IS IN PLACE TO MITIGATE RISK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PMC APPROVES THE PRODUCT AND NECESSARY SUBMISSION MADE TO IRDAI.</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USE AND FILE PROCEDURE IS COMPLETE, CORRECT AND IN COMPLIANCE WITH THE EXTANT APPLICABL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 PMC</a:t>
            </a:r>
            <a:endParaRPr b="0" lang="en-US" sz="5400" spc="-1" strike="noStrike">
              <a:solidFill>
                <a:srgbClr val="ebebeb"/>
              </a:solidFill>
              <a:latin typeface="Century Gothic"/>
            </a:endParaRPr>
          </a:p>
        </p:txBody>
      </p:sp>
      <p:sp>
        <p:nvSpPr>
          <p:cNvPr id="316"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F PRODUCT NOT LAUNCHED WITHIN 30 DAYS OF GENERATION OF UIN, APPROVAL OR MODIFICATION AFRESH TO BE OBTAINED FROM PMC.</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CISION OF WITHDRAWAL SHALL BE TAKEN BY PMC WITH CLEARLY DOCUMENTING THE REASON FOR THE SAM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ITHDRAWN PRODUCT NOT TO BE OFFERED TO NEW CUSTOMER.</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ONE TIME OPTION TO BE GIVEN TO RENEW IF RENEWAL FALLS WITHIN 90 DAYS FROM THE DATE OF WITHDRAWAL.</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MIGRATION PERMITTED AS PER INSURED’S CHOIC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MIUM RECEIVED FOR PRODUCT WITHDRAWN AND POLICY NOT ISSUED   -   REFUNDER &amp; NOT ADJUSTE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GUIDELINES</a:t>
            </a:r>
            <a:endParaRPr b="0" lang="en-US" sz="5400" spc="-1" strike="noStrike">
              <a:solidFill>
                <a:srgbClr val="ebebeb"/>
              </a:solidFill>
              <a:latin typeface="Century Gothic"/>
            </a:endParaRPr>
          </a:p>
        </p:txBody>
      </p:sp>
      <p:sp>
        <p:nvSpPr>
          <p:cNvPr id="318" name="PlaceHolder 2"/>
          <p:cNvSpPr>
            <a:spLocks noGrp="1"/>
          </p:cNvSpPr>
          <p:nvPr>
            <p:ph type="subTitle"/>
          </p:nvPr>
        </p:nvSpPr>
        <p:spPr>
          <a:xfrm>
            <a:off x="762120" y="1905120"/>
            <a:ext cx="8076960" cy="4038480"/>
          </a:xfrm>
          <a:prstGeom prst="rect">
            <a:avLst/>
          </a:prstGeom>
          <a:noFill/>
          <a:ln w="0">
            <a:noFill/>
          </a:ln>
        </p:spPr>
        <p:txBody>
          <a:bodyPr anchor="t">
            <a:noAutofit/>
          </a:bodyPr>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CASHLESS AUTHORIZATION IMMEDIATELY BUT NOT MORE THAN ONE HOUR OF RECEIPT OF REQUEST</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DIGITAL MODE OF AUTHORIZATION IS APPRECIATED</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FINAL AUTHORIZATION WITHIN THREE HOURS OF RECEIPT OF DISCHARGE AUTHORIZATION REQUEST FROM THE HOSPIT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IN CASE OF DEATH, IMMEDIATE PROCESS TO BE DONE TO GET THE MORTAL REMAINS RELEASED FROM HOSPIT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NO CLAIM TO BE REPUDIATED WITHOUT THE APPROVAL OF PMC OR A THREE MEMBER SUB-GROUP OF PMC CALLED THE CLAIMS REVIEW COMMITTEE.</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DISALLOWED AMOUNT TO BE SHARED WITH SPECIFIC T &amp; CO OF POLICY</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IF WITHDRAWN, ONE-TIME OPTION TO BE GIVEN TO RENEW UNDER EXISTING TERMS IF THE POLICY EXPIRES WITHIN 90 DAYS OF WITHDRAW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EXISTING POLICY TO CONTINUE TILL ITS EXPIRY.</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OTHER REGULATIONS</a:t>
            </a:r>
            <a:endParaRPr b="0" lang="en-US" sz="5400" spc="-1" strike="noStrike">
              <a:solidFill>
                <a:srgbClr val="ebebeb"/>
              </a:solidFill>
              <a:latin typeface="Century Gothic"/>
            </a:endParaRPr>
          </a:p>
        </p:txBody>
      </p:sp>
      <p:sp>
        <p:nvSpPr>
          <p:cNvPr id="320"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RDAI (THIRD PARTY ADMINISTRATORS – HEALTH SERVICES ) REGULATIONS 2016</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RDA (PROTECTION OF POLICYHOLDERS’ INTEREST) REGULATIONS2002 – PENAL INTEREST – REGULATION 9(6) – REVISED IN 2017 – 22-06-2017</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1.  2% OVER THE BANK RATE FROM THE DATE OF LAST RECEIVED DOCUMENTS TILL SETTLEMENT  IF CLAIM IS NOT SETTLED WITHIN 30 DAYS OF LAST RECEIVED DOCUMENT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2.  CUSTOMER INFORMATION SHEET IS MUST IN ALL POLICI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3.  PROSPECTUS SHOULD CONTAIN UIN OF THE PRODUCT.</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MP DESCRIPTIONS</a:t>
            </a:r>
            <a:endParaRPr b="0" lang="en-US" sz="5400" spc="-1" strike="noStrike">
              <a:solidFill>
                <a:srgbClr val="ebebeb"/>
              </a:solidFill>
              <a:latin typeface="Century Gothic"/>
            </a:endParaRPr>
          </a:p>
        </p:txBody>
      </p:sp>
      <p:sp>
        <p:nvSpPr>
          <p:cNvPr id="322" name="PlaceHolder 2"/>
          <p:cNvSpPr>
            <a:spLocks noGrp="1"/>
          </p:cNvSpPr>
          <p:nvPr>
            <p:ph type="subTitle"/>
          </p:nvPr>
        </p:nvSpPr>
        <p:spPr>
          <a:xfrm>
            <a:off x="762120" y="1752480"/>
            <a:ext cx="8076960" cy="4648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BHA  - AYUSHMAN BHARAT HEALTH ACCOUN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BDM – AYUSHMAN BHARAT DIGITAL MISSI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 INTEGRATED DIGITAL HEALTH SYSTEM DEVELOPED TO BRIDGE THE GAP BETWEEN DIFFERENT STAKEHOLDERS OF HEALTHCARE ECO SYSTEM.</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14 DIGIT NUMBER – PROVIDES THE HEALTH RECORDS OF PERS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USTODIAN OF ABHA – GOVERNMENT OF INDIA</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CX – HEALTH CLAIMS EXCHANGE – EXCHANGING THE HEALTH CLAIMS DATA FOR USE OF THE STAKEHOLDERS.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FHIR - FAST HEALTHCARE INTEROPERABILITY RESOURCES STANDARD  </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MP DESCRIPTIONS</a:t>
            </a:r>
            <a:endParaRPr b="0" lang="en-US" sz="5400" spc="-1" strike="noStrike">
              <a:solidFill>
                <a:srgbClr val="ebebeb"/>
              </a:solidFill>
              <a:latin typeface="Century Gothic"/>
            </a:endParaRPr>
          </a:p>
        </p:txBody>
      </p:sp>
      <p:sp>
        <p:nvSpPr>
          <p:cNvPr id="324" name="PlaceHolder 2"/>
          <p:cNvSpPr>
            <a:spLocks noGrp="1"/>
          </p:cNvSpPr>
          <p:nvPr>
            <p:ph type="subTitle"/>
          </p:nvPr>
        </p:nvSpPr>
        <p:spPr>
          <a:xfrm>
            <a:off x="762120" y="1600200"/>
            <a:ext cx="8076960" cy="4648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PR – CARDIOPULMONARY RESUSCITATI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BMI – BODY MASS INDEX</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NICU – NEO-NATAL INTENSIVE CARE UNI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CU – CRITICAL CARE UNI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DL &amp; LDL – HIGH DENSITY LIPOPROTEIN AND LOW DENSITY LIPOPROTEI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MBULATORY CHARGES – SERVICES RENDERED AFTER SURGERY OTHERWISE CALLED OUTPATIENT CHARGE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DME – DURABLE MEDICAL EQUIPMENT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CPC – HEALTHCARE PROCEDURE CODING</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ICD – INTERNATIONAL CLASSIFICATION OF DISEASE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26"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MMON PRODUCT ACROSS ALL GENERAL INSUR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ONLY PREMIUM RATE DIFF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OOM RENT, NURSING – 2% PER DAY SUBJECT TO MAX. OF RS.5,000/- PER DA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CU – 5% PER DAY SUBJECT TO MAX.OF RS.10,000/- PER DA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ATARACT – 25% OF SI OR RS.40,000/- WHICHEVER IS LES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HOSPITALISATION – 30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ST-HOSPITALISATION – 60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MODERN METHODS INTRODUCED WITH 50% LIMIT OF SI.</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28"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UMULATIVE BONUS 5% UPTO 50% AND SHALL REDUCED IN THE SAME MANNER IF CLAIM IS REPORTED</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ALL EXCLUSIONS ARE DEFINED AND COMMON ACROSS ALL INSUR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PAYMENT OF 5% - IF THE CLAIM AMOUNT EXCEED SI ?</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AYMENT OF PREMIUM ON INSTALMENT BASIS PERMITTED WITH 30 DAYS GRACE TIME FOR MAKING THE PAYMEN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MINATION MANDAT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 LOADING TO APPLY IN CASE OF CLAIMS EXPERIENCE.</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30"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M INSURED RANGING FROM RS.50,000 TO RS.10 LAKH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OTH ON INDIVIDUAL BASIS AND FLOATER BA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AMILY – SELF, SPOUSE, CHILDREN AND PARENTS/IN-LAWS</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CORONA KAVACH</a:t>
            </a:r>
            <a:endParaRPr b="0" lang="en-US" sz="6500" spc="-1" strike="noStrike">
              <a:solidFill>
                <a:srgbClr val="ebebeb"/>
              </a:solidFill>
              <a:latin typeface="Century Gothic"/>
            </a:endParaRPr>
          </a:p>
        </p:txBody>
      </p:sp>
      <p:sp>
        <p:nvSpPr>
          <p:cNvPr id="332" name="PlaceHolder 2"/>
          <p:cNvSpPr>
            <a:spLocks noGrp="1"/>
          </p:cNvSpPr>
          <p:nvPr>
            <p:ph type="subTitle"/>
          </p:nvPr>
        </p:nvSpPr>
        <p:spPr>
          <a:xfrm>
            <a:off x="762120" y="1752480"/>
            <a:ext cx="8076960" cy="426744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NDIVIDUAL AND FLOATER BA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OSPITALISATION, HOME-CARE TREATMENT, PRE AND POS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I RANGING FROM RS.50,000 TO RS.5 LAC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LICY PERIOD – 3 ½, 6 ½ AND 9 ½ MONTHS -  WHY ?</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OME-CARE WITH CERTAIN CONDITIONS – MAXIMUM UPTO 14 DAYS TREATMEN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IRST FIFTEEN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EALTH CARE DISCOUNT (FOR THOSE WHO ARE WORKING IN HEALTH CARE) – 5%</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URAL – 10%</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880"/>
            <a:ext cx="8229600" cy="590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4" name=""/>
          <p:cNvSpPr txBox="1"/>
          <p:nvPr/>
        </p:nvSpPr>
        <p:spPr>
          <a:xfrm>
            <a:off x="380880" y="1523520"/>
            <a:ext cx="8229600" cy="4389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minimum period for hospitalisation ?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24 hour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ay Care Procedures -  Whether admission is required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No</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miciliary Expenses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ndition of patient is such that he is not in a condition to be removed to hospital</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availability of room in the hospi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me-Care treatmen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CORONA KAVACH</a:t>
            </a:r>
            <a:endParaRPr b="0" lang="en-US" sz="6500" spc="-1" strike="noStrike">
              <a:solidFill>
                <a:srgbClr val="ebebeb"/>
              </a:solidFill>
              <a:latin typeface="Century Gothic"/>
            </a:endParaRPr>
          </a:p>
        </p:txBody>
      </p:sp>
      <p:sp>
        <p:nvSpPr>
          <p:cNvPr id="334"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ANCELLATION – 7 DAYS’ NOTICE</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Century Gothic"/>
              </a:rPr>
              <a:t>OVERSEAS MEDICLAIM POLICY</a:t>
            </a:r>
            <a:endParaRPr b="0" lang="en-US" sz="4000" spc="-1" strike="noStrike">
              <a:solidFill>
                <a:srgbClr val="ebebeb"/>
              </a:solidFill>
              <a:latin typeface="Century Gothic"/>
            </a:endParaRPr>
          </a:p>
        </p:txBody>
      </p:sp>
      <p:sp>
        <p:nvSpPr>
          <p:cNvPr id="336"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FOR TRAVELLING ABROAD.</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MEDICAL EXPENSES AND REPATRIATION</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ERSONAL ACCIDEN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LOSS OF CHECKED IN BAGGAGE ( PROPERTY IRREGULARITY REPOR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DELAY IN CHECKED IN BAGGAGE -   ONLY ON OUTBOUND FLIGHTS</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LOSS OF PASSPOR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ERSONAL LIABILITY – LEGAL LIABILITY ARISING OUT OF INSURED.</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OLICY ISSUED FOR MAX.180 DAYS – ONE EXTENSION UPTO 180</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AGE, NO.OF DAYS AND SUM INSURED</a:t>
            </a: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Century Gothic"/>
              </a:rPr>
              <a:t>OVERSEAS MEDICLAIM POLICY</a:t>
            </a:r>
            <a:endParaRPr b="0" lang="en-US" sz="4000" spc="-1" strike="noStrike">
              <a:solidFill>
                <a:srgbClr val="ebebeb"/>
              </a:solidFill>
              <a:latin typeface="Century Gothic"/>
            </a:endParaRPr>
          </a:p>
        </p:txBody>
      </p:sp>
      <p:sp>
        <p:nvSpPr>
          <p:cNvPr id="338" name="PlaceHolder 2"/>
          <p:cNvSpPr>
            <a:spLocks noGrp="1"/>
          </p:cNvSpPr>
          <p:nvPr>
            <p:ph type="subTitle"/>
          </p:nvPr>
        </p:nvSpPr>
        <p:spPr>
          <a:xfrm>
            <a:off x="762120" y="1447560"/>
            <a:ext cx="8076960" cy="472428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AGAINST MEDICAL ADVIC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DUCTIBL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SMETIC SURGE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GNAN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TREATMENT IN INDIA</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EXISTING  -      ?????????????</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RPORATE FREQUENT TRAVELLERS</a:t>
            </a: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OR FREQUENTLY TRAVELLING PUBLIC. </a:t>
            </a: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BJECT TO ANY ONE TRIP NOT EXCEEDING 60 DAYS AND AGGREGATE 180 DAYS DURING THE POLICY PERIO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Gothic"/>
              </a:rPr>
              <a:t>CRITICAL ILLNESS BENEFIT POLICY</a:t>
            </a:r>
            <a:endParaRPr b="0" lang="en-US" sz="3600" spc="-1" strike="noStrike">
              <a:solidFill>
                <a:srgbClr val="ebebeb"/>
              </a:solidFill>
              <a:latin typeface="Century Gothic"/>
            </a:endParaRPr>
          </a:p>
        </p:txBody>
      </p:sp>
      <p:sp>
        <p:nvSpPr>
          <p:cNvPr id="340" name="PlaceHolder 2"/>
          <p:cNvSpPr>
            <a:spLocks noGrp="1"/>
          </p:cNvSpPr>
          <p:nvPr>
            <p:ph type="subTitle"/>
          </p:nvPr>
        </p:nvSpPr>
        <p:spPr>
          <a:xfrm>
            <a:off x="762120" y="1981080"/>
            <a:ext cx="8076960" cy="41911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ENEFIT POLICY FOR COVERING CRITICAL ILLNESS CONTRACTED.</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SIGNED TO TAKE CARE OF THE FUTURE MEDICAL EXPENS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ULL SUM INSURED IS PAYABLE ON CONTRACTING THE CRITICAL ILLNESS FOR THE FIRST TIM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AITING PERIOD IS FIRST 90 DAYS OF THE FIRST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RVIVAL PERIOD IS 30 DAYS  FROM THE DATE OF DIAGNO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LLNESSES DIFFERS FROM POLICY TO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LICY CEASES AS SOON AS THE CLAIM IS PAI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2971440"/>
            <a:ext cx="7851600" cy="7621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QUESTIONS</a:t>
            </a:r>
            <a:endParaRPr b="0" lang="en-US" sz="65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609480"/>
            <a:ext cx="7851600" cy="5335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TWO POLICIES</a:t>
            </a:r>
            <a:endParaRPr b="0" lang="en-US" sz="6500" spc="-1" strike="noStrike">
              <a:solidFill>
                <a:srgbClr val="ebebeb"/>
              </a:solidFill>
              <a:latin typeface="Century Gothic"/>
            </a:endParaRPr>
          </a:p>
        </p:txBody>
      </p:sp>
      <p:sp>
        <p:nvSpPr>
          <p:cNvPr id="343" name="PlaceHolder 2"/>
          <p:cNvSpPr>
            <a:spLocks noGrp="1"/>
          </p:cNvSpPr>
          <p:nvPr>
            <p:ph type="subTitle"/>
          </p:nvPr>
        </p:nvSpPr>
        <p:spPr>
          <a:xfrm>
            <a:off x="762120" y="1371240"/>
            <a:ext cx="8076960" cy="472428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2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ENEWED          -   1-1-2019 TO 31-12-2019  -  RS.2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5-12-2018 AND DISCHARGED ON 06-01-2019</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     RS.3.25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54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25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LESS :  NON-MEDICAL EXP</a:t>
            </a:r>
            <a:r>
              <a:rPr b="1" lang="en-US" sz="2000" spc="-1" strike="noStrike">
                <a:solidFill>
                  <a:srgbClr val="ffffff"/>
                </a:solidFill>
                <a:latin typeface="Century Gothic"/>
              </a:rPr>
              <a:t>	</a:t>
            </a:r>
            <a:r>
              <a:rPr b="1" lang="en-US" sz="2000" spc="-1" strike="noStrike">
                <a:solidFill>
                  <a:srgbClr val="ffffff"/>
                </a:solidFill>
                <a:latin typeface="Century Gothic"/>
              </a:rPr>
              <a:t>-  RS.0.54 LAKHS</a:t>
            </a:r>
            <a:endParaRPr b="0" lang="en-US" sz="20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ADMISSIBLE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2.71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PAYABLE IS  -  RS.2.71 LAKHS / RS.2 LAKHS / PROPRIONATELY PAID AND SI REDUCED.</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NS : 2 LAKHS</a:t>
            </a: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COPAY</a:t>
            </a:r>
            <a:endParaRPr b="0" lang="en-US" sz="6500" spc="-1" strike="noStrike">
              <a:solidFill>
                <a:srgbClr val="ebebeb"/>
              </a:solidFill>
              <a:latin typeface="Century Gothic"/>
            </a:endParaRPr>
          </a:p>
        </p:txBody>
      </p:sp>
      <p:sp>
        <p:nvSpPr>
          <p:cNvPr id="345" name="PlaceHolder 2"/>
          <p:cNvSpPr>
            <a:spLocks noGrp="1"/>
          </p:cNvSpPr>
          <p:nvPr>
            <p:ph type="subTitle"/>
          </p:nvPr>
        </p:nvSpPr>
        <p:spPr>
          <a:xfrm>
            <a:off x="762120" y="1523880"/>
            <a:ext cx="8076960" cy="472464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POLICY PERIOD   -   1-1-2018 TO 31-12-2018  - RS.3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POLICY RENEWED ON 20-01-2019-19-01-2020 – RS.3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ffffff"/>
                </a:solidFill>
                <a:uFillTx/>
                <a:latin typeface="Century Gothic"/>
              </a:rPr>
              <a:t>POLICY CARRY COPAY OF 10% ON ALL CLAIM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DMITTED ON 25-12-2018 AND DISCHARGED ON 06-01-2019</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ED AMOUNT </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     RS.4.20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NON-MEDICAL EXPENSES         -    RS.0.20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HOW MUCH CLAIM PAYABLE ?</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ED AMOUNT </a:t>
            </a:r>
            <a:r>
              <a:rPr b="1" lang="en-US" sz="1700" spc="-1" strike="noStrike">
                <a:solidFill>
                  <a:srgbClr val="ffffff"/>
                </a:solidFill>
                <a:latin typeface="Century Gothic"/>
              </a:rPr>
              <a:t>	</a:t>
            </a:r>
            <a:r>
              <a:rPr b="1" lang="en-US" sz="1700" spc="-1" strike="noStrike">
                <a:solidFill>
                  <a:srgbClr val="ffffff"/>
                </a:solidFill>
                <a:latin typeface="Century Gothic"/>
              </a:rPr>
              <a:t>-</a:t>
            </a:r>
            <a:r>
              <a:rPr b="1" lang="en-US" sz="1700" spc="-1" strike="noStrike">
                <a:solidFill>
                  <a:srgbClr val="ffffff"/>
                </a:solidFill>
                <a:latin typeface="Century Gothic"/>
              </a:rPr>
              <a:t>	</a:t>
            </a:r>
            <a:r>
              <a:rPr b="1" lang="en-US" sz="1700" spc="-1" strike="noStrike">
                <a:solidFill>
                  <a:srgbClr val="ffffff"/>
                </a:solidFill>
                <a:latin typeface="Century Gothic"/>
              </a:rPr>
              <a:t>RS.4.2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LESS : NON-MEDICAL EXPENSES</a:t>
            </a:r>
            <a:r>
              <a:rPr b="1" lang="en-US" sz="1700" spc="-1" strike="noStrike">
                <a:solidFill>
                  <a:srgbClr val="ffffff"/>
                </a:solidFill>
                <a:latin typeface="Century Gothic"/>
              </a:rPr>
              <a:t>	</a:t>
            </a:r>
            <a:r>
              <a:rPr b="1" lang="en-US" sz="1700" spc="-1" strike="noStrike">
                <a:solidFill>
                  <a:srgbClr val="ffffff"/>
                </a:solidFill>
                <a:latin typeface="Century Gothic"/>
              </a:rPr>
              <a:t>RS.0.20 LAKHS</a:t>
            </a:r>
            <a:r>
              <a:rPr b="1" lang="en-US" sz="1700" spc="-1" strike="noStrike">
                <a:solidFill>
                  <a:srgbClr val="ffffff"/>
                </a:solidFill>
                <a:latin typeface="Century Gothic"/>
              </a:rPr>
              <a:t>	</a:t>
            </a:r>
            <a:r>
              <a:rPr b="1" lang="en-US" sz="1700" spc="-1" strike="noStrike">
                <a:solidFill>
                  <a:srgbClr val="ffffff"/>
                </a:solidFill>
                <a:latin typeface="Century Gothic"/>
              </a:rPr>
              <a:t>RS.4.0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LESS : 10% COPAY ON ADMISSIBLE CLAIMS</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RS.0.4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DMISSIBLE CLAIM AMOUNT</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RS.3.6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 PAYABLE – RS.4.20 L / RS.2.70 L / RS.3 L / PROP.SHARE ONLY</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NS : 3 LAKHS</a:t>
            </a: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COPAY</a:t>
            </a:r>
            <a:endParaRPr b="0" lang="en-US" sz="6500" spc="-1" strike="noStrike">
              <a:solidFill>
                <a:srgbClr val="ebebeb"/>
              </a:solidFill>
              <a:latin typeface="Century Gothic"/>
            </a:endParaRPr>
          </a:p>
        </p:txBody>
      </p:sp>
      <p:sp>
        <p:nvSpPr>
          <p:cNvPr id="347" name="PlaceHolder 2"/>
          <p:cNvSpPr>
            <a:spLocks noGrp="1"/>
          </p:cNvSpPr>
          <p:nvPr>
            <p:ph type="subTitle"/>
          </p:nvPr>
        </p:nvSpPr>
        <p:spPr>
          <a:xfrm>
            <a:off x="533160" y="1523520"/>
            <a:ext cx="8305560" cy="49532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Century Gothic"/>
              </a:rPr>
              <a:t>POLICY CARRY COPAY OF 10% ON ALL CLAIM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5-12-2018 AND DISCHARGED ON 06-01-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a:t>
            </a:r>
            <a:r>
              <a:rPr b="1" lang="en-US" sz="2000" spc="-1" strike="noStrike">
                <a:solidFill>
                  <a:srgbClr val="ffffff"/>
                </a:solidFill>
                <a:latin typeface="Century Gothic"/>
              </a:rPr>
              <a:t>	</a:t>
            </a:r>
            <a:r>
              <a:rPr b="1" lang="en-US" sz="2000" spc="-1" strike="noStrike">
                <a:solidFill>
                  <a:srgbClr val="ffffff"/>
                </a:solidFill>
                <a:latin typeface="Century Gothic"/>
              </a:rPr>
              <a:t>RS.3.50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LESS : NON-MEDICAL EXPENSES</a:t>
            </a:r>
            <a:r>
              <a:rPr b="1" lang="en-US" sz="2000" spc="-1" strike="noStrike">
                <a:solidFill>
                  <a:srgbClr val="ffffff"/>
                </a:solidFill>
                <a:latin typeface="Century Gothic"/>
              </a:rPr>
              <a:t>	</a:t>
            </a:r>
            <a:r>
              <a:rPr b="1" lang="en-US" sz="2000" spc="-1" strike="noStrike">
                <a:solidFill>
                  <a:srgbClr val="ffffff"/>
                </a:solidFill>
                <a:latin typeface="Century Gothic"/>
              </a:rPr>
              <a:t>RS.0.20 LAKHS</a:t>
            </a:r>
            <a:r>
              <a:rPr b="1" lang="en-US" sz="2000" spc="-1" strike="noStrike">
                <a:solidFill>
                  <a:srgbClr val="ffffff"/>
                </a:solidFill>
                <a:latin typeface="Century Gothic"/>
              </a:rPr>
              <a:t>	</a:t>
            </a:r>
            <a:r>
              <a:rPr b="1" lang="en-US" sz="2000" spc="-1" strike="noStrike">
                <a:solidFill>
                  <a:srgbClr val="ffffff"/>
                </a:solidFill>
                <a:latin typeface="Century Gothic"/>
              </a:rPr>
              <a:t>RS.3.30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LESS : 10% COPAY ON ADMISSIBLE CLAIMS</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RS.0.33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SSIBLE CLAIM AMOUNT</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RS.2.97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PAYABLE – RS.2.97 LAKH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Single policy</a:t>
            </a:r>
            <a:endParaRPr b="0" lang="en-US" sz="6500" spc="-1" strike="noStrike">
              <a:solidFill>
                <a:srgbClr val="ebebeb"/>
              </a:solidFill>
              <a:latin typeface="Century Gothic"/>
            </a:endParaRPr>
          </a:p>
        </p:txBody>
      </p:sp>
      <p:sp>
        <p:nvSpPr>
          <p:cNvPr id="349"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T RENEWED DUE TO CERTAIN REASON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9-12-2018 AND DISCHARGED ON 06-01-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4.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 -   RS.3 LAKH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TWO POLICIES</a:t>
            </a:r>
            <a:endParaRPr b="0" lang="en-US" sz="6500" spc="-1" strike="noStrike">
              <a:solidFill>
                <a:srgbClr val="ebebeb"/>
              </a:solidFill>
              <a:latin typeface="Century Gothic"/>
            </a:endParaRPr>
          </a:p>
        </p:txBody>
      </p:sp>
      <p:sp>
        <p:nvSpPr>
          <p:cNvPr id="351"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UIIC POLICY PERIOD   -   1-1-2019 TO 31-12-2019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IA POLICY PERIOD – 01-07-2018 TO 30-06-2019 –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01-02-2019 AND DISCHARGED ON 16-02-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8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FROM WHERE THE INSURED CAN CLAIM ?    UNDER ANY POLIC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ETHER PROPORTIONATE ? NO</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ROCEDURE FOR MAKING SECOND CLAIM ? WITH XERXO COPIES DULY CERTIFIED BY FIRST TPA</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704880"/>
            <a:ext cx="815328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6" name=""/>
          <p:cNvSpPr txBox="1"/>
          <p:nvPr/>
        </p:nvSpPr>
        <p:spPr>
          <a:xfrm>
            <a:off x="761760" y="1599840"/>
            <a:ext cx="7924680" cy="4724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YUSH -   Ayurvedic, Yoga and Naturopathy, Unani, Siddha and Homeopathic</a:t>
            </a:r>
            <a:endParaRPr b="0" lang="en-US" sz="20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vered if taken in Government Hospital or in any Institute recognised by the Government and/or accredited by QCI (Quality Council of India)/NABH</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ational Accreditation Board on Health)</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ODERN TREATMENT METHODS &amp; ADVANCEMENT IN TECHNOLOGIES  -  with limit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4a16f"/>
                </a:solidFill>
                <a:latin typeface="Century Gothic"/>
              </a:rPr>
              <a:t>ROOM RENT LIMIT - POLICIES</a:t>
            </a:r>
            <a:endParaRPr b="0" lang="en-US" sz="4400" spc="-1" strike="noStrike">
              <a:solidFill>
                <a:srgbClr val="ebebeb"/>
              </a:solidFill>
              <a:latin typeface="Century Gothic"/>
            </a:endParaRPr>
          </a:p>
        </p:txBody>
      </p:sp>
      <p:sp>
        <p:nvSpPr>
          <p:cNvPr id="353" name="PlaceHolder 2"/>
          <p:cNvSpPr>
            <a:spLocks noGrp="1"/>
          </p:cNvSpPr>
          <p:nvPr>
            <p:ph type="subTitle"/>
          </p:nvPr>
        </p:nvSpPr>
        <p:spPr>
          <a:xfrm>
            <a:off x="380520" y="1752120"/>
            <a:ext cx="861084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UIIC POLICY PERIOD   -   1-1-2022 TO 31-12-2022  - RS.5 LAKHS</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ADMITTED ON 01-02-2022 AND DISCHARGED ON 16-02-2022</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ROOM RENT LIMIT – 1% AND ICU 2% -</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CLAIMED AMOUNT </a:t>
            </a:r>
            <a:r>
              <a:rPr b="1" lang="en-US" sz="2200" spc="-1" strike="noStrike">
                <a:solidFill>
                  <a:srgbClr val="ffffff"/>
                </a:solidFill>
                <a:latin typeface="Century Gothic"/>
              </a:rPr>
              <a:t>	</a:t>
            </a:r>
            <a:r>
              <a:rPr b="1" lang="en-US" sz="2200" spc="-1" strike="noStrike">
                <a:solidFill>
                  <a:srgbClr val="ffffff"/>
                </a:solidFill>
                <a:latin typeface="Century Gothic"/>
              </a:rPr>
              <a:t>- RS.5.80 LAKHS, NON-MEDICAL EXPENSES  -    RS.0.20 LAKHS</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ROOM USED – RS.10,000/-, SURGEON, ASST.SURGEONS, ANESTHETIST AND DOCTOR FEES – RS.1,50,000/-, INVESTIGATIONS – RS.90,000/-, IMPLANT – RS.1 LAKH AND MEDICINES AND CONSUMABLE INCLUDING NON-MEDICAL EXP – RS.80,000/-</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	</a:t>
            </a:r>
            <a:r>
              <a:rPr b="1" lang="en-US" sz="1900" spc="-1" strike="noStrike">
                <a:solidFill>
                  <a:srgbClr val="ffffff"/>
                </a:solidFill>
                <a:latin typeface="Century Gothic"/>
              </a:rPr>
              <a:t>CALCULATION IN NEXT PAGE</a:t>
            </a: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4a16f"/>
                </a:solidFill>
                <a:latin typeface="Century Gothic"/>
              </a:rPr>
              <a:t>ROOM RENT LIMIT - POLICIES</a:t>
            </a:r>
            <a:endParaRPr b="0" lang="en-US" sz="4400" spc="-1" strike="noStrike">
              <a:solidFill>
                <a:srgbClr val="ebebeb"/>
              </a:solidFill>
              <a:latin typeface="Century Gothic"/>
            </a:endParaRPr>
          </a:p>
        </p:txBody>
      </p:sp>
      <p:sp>
        <p:nvSpPr>
          <p:cNvPr id="355" name="PlaceHolder 2"/>
          <p:cNvSpPr>
            <a:spLocks noGrp="1"/>
          </p:cNvSpPr>
          <p:nvPr>
            <p:ph type="subTitle"/>
          </p:nvPr>
        </p:nvSpPr>
        <p:spPr>
          <a:xfrm>
            <a:off x="1447560" y="1752120"/>
            <a:ext cx="701028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ROOM RENT</a:t>
            </a:r>
            <a:r>
              <a:rPr b="1" lang="en-IN" sz="2000" spc="-1" strike="noStrike">
                <a:solidFill>
                  <a:srgbClr val="ffffff"/>
                </a:solidFill>
                <a:latin typeface="Century Gothic"/>
              </a:rPr>
              <a:t>	</a:t>
            </a:r>
            <a:r>
              <a:rPr b="1" lang="en-IN" sz="2000" spc="-1" strike="noStrike">
                <a:solidFill>
                  <a:srgbClr val="ffffff"/>
                </a:solidFill>
                <a:latin typeface="Century Gothic"/>
              </a:rPr>
              <a:t>-RS.5,000 (1%) * 16 DAYS – RS.80,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SURGEON, ANESTHETIST, ETC.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RS.75,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PROPORTIONATELY DIVIDED ACCORDING TO</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ROOM OCCUPIED VS.ROOM ELIGIBILIT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INVESTIGATIONS</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45,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IMPLAN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 1 LAKH</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MEDICINES – NON-MEDICALS</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60,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TOTAL CLAIM PAYABLE  -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3,60,000/-</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BONUS</a:t>
            </a:r>
            <a:endParaRPr b="0" lang="en-US" sz="6500" spc="-1" strike="noStrike">
              <a:solidFill>
                <a:srgbClr val="ebebeb"/>
              </a:solidFill>
              <a:latin typeface="Century Gothic"/>
            </a:endParaRPr>
          </a:p>
        </p:txBody>
      </p:sp>
      <p:sp>
        <p:nvSpPr>
          <p:cNvPr id="357"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UIIC POLICY PERIOD   -   1-1-2019 TO 31-12-2019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UMULATIVE BONUS  EARNED -   50% TOTALLING TO RS.4.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CARRY – 1% ROOM RENT PER DAY AND 2% ICU PER DA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01-02-2019 AND DISCHARGED ON 16-02-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4.8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AT IS ROOM RENT ELIGIBLE ?  -   1% OF BASE SI</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AT IS THE CLAIM AMOUNT ? HOW TO WORK OUT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IF THE ADMISSIBLE AMOUNT IS ABOVE RS.3 LAKHS, THEN THE CUMULATIVE BONUS IS ADDED AND PAID.</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SUPER TOP UP</a:t>
            </a:r>
            <a:endParaRPr b="0" lang="en-US" sz="6500" spc="-1" strike="noStrike">
              <a:solidFill>
                <a:srgbClr val="ebebeb"/>
              </a:solidFill>
              <a:latin typeface="Century Gothic"/>
            </a:endParaRPr>
          </a:p>
        </p:txBody>
      </p:sp>
      <p:sp>
        <p:nvSpPr>
          <p:cNvPr id="359"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YEAR – 11</a:t>
            </a:r>
            <a:r>
              <a:rPr b="1" lang="en-US" sz="2000" spc="-1" strike="noStrike" baseline="30000">
                <a:solidFill>
                  <a:srgbClr val="ffffff"/>
                </a:solidFill>
                <a:latin typeface="Century Gothic"/>
              </a:rPr>
              <a:t>TH</a:t>
            </a:r>
            <a:r>
              <a:rPr b="1" lang="en-US" sz="2000" spc="-1" strike="noStrike">
                <a:solidFill>
                  <a:srgbClr val="ffffff"/>
                </a:solidFill>
                <a:latin typeface="Century Gothic"/>
              </a:rPr>
              <a:t> RENEWAL  - 01-01-2022 TO 31-12-2022 –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UPER TOP UP – 5</a:t>
            </a:r>
            <a:r>
              <a:rPr b="1" lang="en-US" sz="2000" spc="-1" strike="noStrike" baseline="30000">
                <a:solidFill>
                  <a:srgbClr val="ffffff"/>
                </a:solidFill>
                <a:latin typeface="Century Gothic"/>
              </a:rPr>
              <a:t>TH</a:t>
            </a:r>
            <a:r>
              <a:rPr b="1" lang="en-US" sz="2000" spc="-1" strike="noStrike">
                <a:solidFill>
                  <a:srgbClr val="ffffff"/>
                </a:solidFill>
                <a:latin typeface="Century Gothic"/>
              </a:rPr>
              <a:t> RENEWAL – 01-01-22 – 31-12-22 –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I RS.5 LAKHS WITH THRESHOLD LEVEL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IN THE MONTH OF JUNE 2022 FOR RS.4.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BASE POLICY CLAIM PAID – RS.2.90 LAKHS AFTER APPLYING LIMITS</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BALANCE NOT PAYABLE.</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S.1.60 LAKHS PAYABLE UNDER SUPER TOP</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S.1.50 LAKHS PAYABLE UNDER SUPER TOP</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IL CLAIM UNDER STUP AS BASE POLICY NOT EXHAUSTED.</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SUPER TOP UP</a:t>
            </a:r>
            <a:endParaRPr b="0" lang="en-US" sz="6500" spc="-1" strike="noStrike">
              <a:solidFill>
                <a:srgbClr val="ebebeb"/>
              </a:solidFill>
              <a:latin typeface="Century Gothic"/>
            </a:endParaRPr>
          </a:p>
        </p:txBody>
      </p:sp>
      <p:sp>
        <p:nvSpPr>
          <p:cNvPr id="361"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YEAR – 9</a:t>
            </a:r>
            <a:r>
              <a:rPr b="1" lang="en-US" sz="1900" spc="-1" strike="noStrike" baseline="30000">
                <a:solidFill>
                  <a:srgbClr val="ffffff"/>
                </a:solidFill>
                <a:latin typeface="Century Gothic"/>
              </a:rPr>
              <a:t>TH</a:t>
            </a:r>
            <a:r>
              <a:rPr b="1" lang="en-US" sz="1900" spc="-1" strike="noStrike">
                <a:solidFill>
                  <a:srgbClr val="ffffff"/>
                </a:solidFill>
                <a:latin typeface="Century Gothic"/>
              </a:rPr>
              <a:t> RENEWAL  - 01-01-2021 TO 31-12-2021 – RS.5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SUPER TOP UP – 3</a:t>
            </a:r>
            <a:r>
              <a:rPr b="1" lang="en-US" sz="1900" spc="-1" strike="noStrike" baseline="30000">
                <a:solidFill>
                  <a:srgbClr val="ffffff"/>
                </a:solidFill>
                <a:latin typeface="Century Gothic"/>
              </a:rPr>
              <a:t>RD</a:t>
            </a:r>
            <a:r>
              <a:rPr b="1" lang="en-US" sz="1900" spc="-1" strike="noStrike">
                <a:solidFill>
                  <a:srgbClr val="ffffff"/>
                </a:solidFill>
                <a:latin typeface="Century Gothic"/>
              </a:rPr>
              <a:t> RENEWAL – 01-01-21 – 31-12-21 –  </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SI RS.5 LAKHS WITH THRESHOLD LEVEL – RS.3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TREATED FOR HEART AILMENT IN THE YEAR 2016.</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CLAIM IN THE MONTH OF JUNE 2021 FOR HEART AILMENT RS.4.10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BASE POLICY CLAIM PAID – RS.2.60 LAKHS AFTER APPLYING LIMITS</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RS.1.50 LAKHS PAYABLE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RS.1.10 LAKHS PAYABLE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NIL CLAIM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NIL CLAIM AS IT NOT EXCEEDED BASE SI.</a:t>
            </a: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1</a:t>
            </a:r>
            <a:endParaRPr b="0" lang="en-US" sz="6500" spc="-1" strike="noStrike">
              <a:solidFill>
                <a:srgbClr val="ebebeb"/>
              </a:solidFill>
              <a:latin typeface="Century Gothic"/>
            </a:endParaRPr>
          </a:p>
        </p:txBody>
      </p:sp>
      <p:sp>
        <p:nvSpPr>
          <p:cNvPr id="363"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TAKEN A HEALTH INSURANCE POLICY FOR SI OF RS.5 LACS SINCE 2018. DURING JANUARY 2024 HE TOOK A CRITICAL ILLNESS POLICY FOR SI OF RS.10 LAKHS.  HE UNDERWENT HEART SURGERY IN THE YEAR 2021 AND THE CLAIM WAS SETTLED FOR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DURING MARCH 2024 HE HAD HEART ATTACK AND CLAIMED AN AMOUNT OF RS.9 LAKHS SPENT FOR HOSPITALISATION TREATMENT AND CLAIMED THE ENTIRE AMOUNT UNDER BOTH THE POLICIE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TO MR.A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2</a:t>
            </a:r>
            <a:endParaRPr b="0" lang="en-US" sz="6500" spc="-1" strike="noStrike">
              <a:solidFill>
                <a:srgbClr val="ebebeb"/>
              </a:solidFill>
              <a:latin typeface="Century Gothic"/>
            </a:endParaRPr>
          </a:p>
        </p:txBody>
      </p:sp>
      <p:sp>
        <p:nvSpPr>
          <p:cNvPr id="365"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TAKEN A FAMILY FLOATER POLICY FOR SI OF RS.5 LAKHS COVERING SELF, SPOUSE AND ONE CHILD SINCE JAN 2020.  HE HAS OPTED FOR MATERNITY COVER UNDER THE POLICY DURING ITS RENEWAL IN JAN 2023.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CLAIMED AN AMOUNT OF RS.50,000/- FOR DELIVERY OF SECOND CHILD IN THE MONTH OF JUN 2023.  HE WAS ADMITTED FOR CHRONIC TREATMENT IN AUGUST 2023 AND SPENT AN AMOUNT OF RS.4.65 LAKHS AND CLAIMED THE AMOUNT.</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9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UNDER BOTH THE CLAIMS  ?</a:t>
            </a:r>
            <a:endParaRPr b="0" lang="en-US" sz="2000" spc="-1" strike="noStrike">
              <a:solidFill>
                <a:srgbClr val="ffffff"/>
              </a:solidFill>
              <a:latin typeface="Century Gothic"/>
            </a:endParaRPr>
          </a:p>
          <a:p>
            <a:pPr>
              <a:lnSpc>
                <a:spcPct val="9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BALANCE SUM INSURED AVAILABLE /</a:t>
            </a: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3</a:t>
            </a:r>
            <a:endParaRPr b="0" lang="en-US" sz="6500" spc="-1" strike="noStrike">
              <a:solidFill>
                <a:srgbClr val="ebebeb"/>
              </a:solidFill>
              <a:latin typeface="Century Gothic"/>
            </a:endParaRPr>
          </a:p>
        </p:txBody>
      </p:sp>
      <p:sp>
        <p:nvSpPr>
          <p:cNvPr id="367"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S SUPER TOP POLICY WITH SUM INSURED OF RS.10 LAKHS AND THRESHOLD LIMIT OF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WAS HOSPITALISED FOR 15 DAYS AND SPENT AN AMOUNT OF RS.7 LAKHS FOR THE TREATMENT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CLAIMED THE ENTIRE AMOUNT OF RS.7 LAKHS AS THE SI WAS 10 LAKHS UNDER SUPER TOP UP POLICY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4</a:t>
            </a:r>
            <a:endParaRPr b="0" lang="en-US" sz="6500" spc="-1" strike="noStrike">
              <a:solidFill>
                <a:srgbClr val="ebebeb"/>
              </a:solidFill>
              <a:latin typeface="Century Gothic"/>
            </a:endParaRPr>
          </a:p>
        </p:txBody>
      </p:sp>
      <p:sp>
        <p:nvSpPr>
          <p:cNvPr id="369"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BASE POLICY OF RS.5 LAKHS WITH A CONDITION OF 70% OF SUM INSURED FOR MAJOR ILLNESS AND SUPER TOP POLICY WITH SI OF RS.10 LAKHS WITH THRESHOLD LEVEL OF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WAS ADMITTED IN HOSPITAL FOR 10 DAYS AND SPENT AN AMOUNT OF RS.7 LAKHS FOR THE TREATMENT OF MAJOR ILLNES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UNDER BOTH THE POLICIES TO MR.A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504960"/>
            <a:ext cx="830592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4200" spc="-1" strike="noStrike">
                <a:solidFill>
                  <a:srgbClr val="ff0000"/>
                </a:solidFill>
                <a:latin typeface="Century Gothic"/>
              </a:rPr>
              <a:t>Thank you</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1219320"/>
            <a:ext cx="7620120" cy="514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ebebeb"/>
                </a:solidFill>
                <a:latin typeface="Century Gothic"/>
              </a:rPr>
              <a:t>TYPE OF HOSPITALS</a:t>
            </a:r>
            <a:endParaRPr b="0" lang="en-US" sz="3800" spc="-1" strike="noStrike">
              <a:solidFill>
                <a:srgbClr val="ebebeb"/>
              </a:solidFill>
              <a:latin typeface="Century Gothic"/>
            </a:endParaRPr>
          </a:p>
        </p:txBody>
      </p:sp>
      <p:sp>
        <p:nvSpPr>
          <p:cNvPr id="248" name=""/>
          <p:cNvSpPr txBox="1"/>
          <p:nvPr/>
        </p:nvSpPr>
        <p:spPr>
          <a:xfrm>
            <a:off x="1752480" y="2209680"/>
            <a:ext cx="6934320" cy="3276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erti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im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704520"/>
            <a:ext cx="8077320" cy="514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ebebeb"/>
                </a:solidFill>
                <a:latin typeface="Century Gothic"/>
              </a:rPr>
              <a:t>HOSPITAL</a:t>
            </a:r>
            <a:endParaRPr b="0" lang="en-US" sz="3800" spc="-1" strike="noStrike">
              <a:solidFill>
                <a:srgbClr val="ebebeb"/>
              </a:solidFill>
              <a:latin typeface="Century Gothic"/>
            </a:endParaRPr>
          </a:p>
        </p:txBody>
      </p:sp>
      <p:graphicFrame>
        <p:nvGraphicFramePr>
          <p:cNvPr id="250" name=""/>
          <p:cNvGraphicFramePr/>
          <p:nvPr/>
        </p:nvGraphicFramePr>
        <p:xfrm>
          <a:off x="533520" y="1523880"/>
          <a:ext cx="8153280" cy="5232600"/>
        </p:xfrm>
        <a:graphic>
          <a:graphicData uri="http://schemas.openxmlformats.org/drawingml/2006/table">
            <a:tbl>
              <a:tblPr/>
              <a:tblGrid>
                <a:gridCol w="1981080"/>
                <a:gridCol w="3114720"/>
                <a:gridCol w="3057480"/>
              </a:tblGrid>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REGULA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AYUSH</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RATION</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ered as Hospital with local authorities o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cognised or registered with local authorities o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TYP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ered</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Govt/Teaching hospital attached to Ayush Hospital,</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INIMUM BED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0 in towns having less than 10 lakhs</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5 in all other place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t>
                      </a:r>
                      <a:r>
                        <a:rPr b="0" lang="en-US" sz="1800" spc="-1" strike="noStrike">
                          <a:solidFill>
                            <a:srgbClr val="000000"/>
                          </a:solidFill>
                          <a:latin typeface="Century Gothic"/>
                        </a:rPr>
                        <a:t>5”</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636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edical Prac.</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yush Medical Practitione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Qualified Nurs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Operation Theatr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Compulsory if performed</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Theraphy sections </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Daily Record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DEFINITION AND EXCLUSIONS</a:t>
            </a:r>
            <a:endParaRPr b="0" lang="en-US" sz="4200" spc="-1" strike="noStrike">
              <a:solidFill>
                <a:srgbClr val="ebebeb"/>
              </a:solidFill>
              <a:latin typeface="Century Gothic"/>
            </a:endParaRPr>
          </a:p>
        </p:txBody>
      </p:sp>
      <p:sp>
        <p:nvSpPr>
          <p:cNvPr id="252" name=""/>
          <p:cNvSpPr txBox="1"/>
          <p:nvPr/>
        </p:nvSpPr>
        <p:spPr>
          <a:xfrm>
            <a:off x="1218960" y="2057040"/>
            <a:ext cx="7467480" cy="350532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tandard Defini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pecific Definitions – Psychiatric, Epidemic, Age, etc.</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aiting Period Exclusion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ermanent Exclusion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pecific Permanent Exclusion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9T10:52:52Z</dcterms:created>
  <dc:creator>Ganesh</dc:creator>
  <dc:description/>
  <dc:language>en-US</dc:language>
  <cp:lastModifiedBy>GANESH SUBRAMANIAN</cp:lastModifiedBy>
  <dcterms:modified xsi:type="dcterms:W3CDTF">2024-11-19T09:09:55Z</dcterms:modified>
  <cp:revision>269</cp:revision>
  <dc:subject/>
  <dc:title>UNITED INDIA INSURANCE COMPANY LIMITED</dc:title>
</cp:coreProperties>
</file>